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634-FB69-4C53-8D07-E83E43A5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83EB-4647-4AB9-A5D5-96A14348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DAD62-3A1B-474A-97B6-58BE0BF1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6AFF9-6888-4BF4-981B-1AD781A6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3E7CB-D50D-4D19-BA8E-5CB216FF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42117-F992-46F8-A3CF-AEC9B79A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869FA-E066-4090-8F20-BC0BF9C6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7B885-DC91-44E8-9A1B-96AF79FC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D02E0-E08C-4CF8-B3EB-F28065FA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D5C4B-3883-48EA-8C32-B30ADA26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34089-FEC8-413C-9BC6-8A177147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AE9C9-6DF7-4A65-BF8D-27BD6DE5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70C-B2E2-4AE6-A42B-F4A18EC4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7474C-88AB-47AB-9482-37A297BA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9B325-9421-475B-BDE8-004A1E6D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C64D7-941A-44E0-8D7E-AA47F113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81196-0FD0-40FB-A12B-7EF7D7C1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55076-F186-47E4-9C8F-852A61D8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F0AA8-4910-4DD6-9F3D-7DDFFE6B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38646-5447-4EB5-B36A-A73C7721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DDC86-2CC8-4FB0-BEDF-88849419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F5A54-8AF6-4D1E-901D-1E14E733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D9A94-5B84-47DB-BB48-1DCFF9BF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1279-1B61-455D-BFD7-8FFDA7D0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F9FE7-0866-44B0-8583-D64C9C7B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9D60F-F05B-4C5A-86AE-C772B6AE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A7089-A162-44E4-AFCA-BCCD22DB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85CB2-D0BA-4BCA-A7C5-17C84B72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F3A48-DB26-4951-A4FA-B5C08413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40883-BAEE-449C-A54C-8D4A742D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45DE2-BB4D-4299-9005-6A2AA1F0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58405-A668-4B4B-8667-25E1C023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22B6B-71D6-427E-903A-B464D5F1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38683-5192-414C-8AE3-E7337AF6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DDE9-4BD3-47A7-B521-A6065E9C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EFC6F-61A2-4797-BF2B-8E269D71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592B6-7281-45BE-AB31-BB9E06D5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63C09-51D2-4CC4-B46F-C715E9D6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FAF1D-2CC1-4DFE-BCE5-AE355A44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A4C5E-2EE0-4BE8-A1C6-44214F0C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2F81E-E2F8-4C3D-9EA8-570C7152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35019-3F25-4967-93CF-4807C24A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2BFE2-504B-485E-BAE3-5D56196A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DBAD5-B8BD-48DC-A9E2-060C996D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21512-684C-40CD-8C86-9EB90613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BE4D-A3AB-42BC-A0F8-1652CE22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36797-E2FD-479B-9DBC-5DE9D8DC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73D4A-66DE-4D89-80FE-F213793F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A3BC0-8FB4-4D5B-8D81-00B62BF5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3EA24-457B-42EB-8D3E-0F3824AA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2F0EE-0412-49BA-B7DE-63607628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73702-BDA0-4B8B-8173-760C12B8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CAA81-5683-4A43-BBF0-1B76321A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E6ED6-9F32-4FA1-9009-426B9179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8EF86-2810-401A-A597-F82FC54A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38A6B-C71B-436C-BDEB-647388C6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E109-0926-4C8C-B6BB-A8055DCF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3ACA6-52B7-43FF-B7DB-25D8DF64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E8FF3-BDF3-494C-8016-D6062C37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769E5-EFE1-428A-A217-62C98C39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D8755-0B72-4F1F-9B5E-CE395167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C6CD0-2A67-4D30-A5EC-C44C44BE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B4AE0-E158-49AE-BBE4-C8E3AA33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C8A01-43BB-417D-9E12-7DEAD75D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C48FA-8829-4EB2-9850-A63133FB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FF47C-5553-4DC6-AE31-3616583A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9A566-29FA-490A-90AA-8B35CCB0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ECE2-7D06-452B-8AEA-8B58132D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600FA-920E-475C-9D3B-0558A58C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92C82-8075-4433-A610-057364D7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63C1F-2A3E-440D-AB0E-7627757F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BFDF5-96D9-4A5D-A595-CFB6DAEF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D7641-AF17-4717-9D73-792D2313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9F73F7-D05B-4A5B-802F-0F8F94ED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CDE811-546F-451E-8D61-0B600F8B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ACDA0-9C77-44C9-B0BD-927A133D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0CB23-AC16-4FAF-881D-E691F2A0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E8C88-8CD5-40E1-88F7-A83CF25F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02F2-029E-458B-9BD6-C4546A7B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548D4-405C-4E11-9C3C-E44B6C01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0E1EE-2BFE-4F9C-B108-A959A0AB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0AB899-F7CB-4AB5-A488-CF916084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A5C796-1E73-4697-A812-EC236298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7F4D59-6998-4040-AD5E-41C5B3ED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8EAF37-DEF2-46D8-9CCC-E1059BE8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15F89B-42E0-4987-9A27-466DEE24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7D7232-75C7-4EFB-8ACC-D80071DA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41E3F-C77E-49FC-88CF-2412D8A9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5AEE21-8F77-4C39-AB6E-F4B17235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6743-938B-4579-AF08-2AAC2F54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0A5736-AFA1-41D5-86D1-4DC2C7D0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EE83DE-380B-4460-B0FC-68C14E62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3F1CA6-8F99-46AD-887F-303415F0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BD5A87-08ED-49AB-8402-BBEF9051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9309C8-1C4C-4447-87D3-2D1B21D8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FA320-2AF8-488B-9DD6-3793187C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8AF752-A50D-443F-9BFE-99C3EF5E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26D9EC-19B7-442E-B9EB-DC94FE47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1A9A00-40E3-47EB-BF6C-AE225F09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E6E3D-1F55-4B16-A477-F32CA2F3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3828-A0DE-42BE-9C3E-222A277A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954316-E327-45E6-9C97-C88BD8B7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22992A-9ACD-44B0-9BF7-6D55550B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A71C4-9BDE-46DA-BC85-180730AD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F39CC0-91BD-4C80-A457-9BCEEFD6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7B362F-D518-464A-909D-74A7A746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E6FBD4-91B6-4175-8FF0-A5CCF660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2BB7D3-E42E-4EA1-BF76-F1819277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26C408-5F84-4E3D-B612-89C7C767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28094E-A822-407E-BFF8-E8F03FAE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744DD0-F953-407E-B13F-C787590E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E8F-9C4E-4ED1-9588-1D845E39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0370-6FC9-45F5-84AA-008926F9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927DD7-B346-4671-959A-9E709247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A470CB-3E94-4741-919D-43AF27E2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9FDE9F-F17E-4A2B-B3CB-14A60D26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92C9E3-F36B-40D2-936E-641036DE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11A363-BEDE-4C24-8902-0E2DCF31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DE1F4F-3F88-43A0-93BC-B00D8CF9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38CB70-8D66-4CEA-B605-23CCC0C0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B90DA2-47FA-42B8-8B1A-A9A143FA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983546-2F62-4A2C-AF3B-9E860E7F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0528C7-5406-4503-8BFF-CF8CC2C0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6BE5-2CFB-44ED-A9DF-875B3879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2B48D9-98D0-4FF1-BB0D-8F7DFC80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F082FC-2E97-44CF-959D-6B5AB7D5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5A95A2-678E-4129-8D9E-61B68487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0AD1E1-74EE-4B21-B561-D00889C0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810D24-6EC0-41D0-BAB0-C7E9A733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DB4216-343C-4281-8B28-DAADFBC6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FC04A3-CAC5-4047-BA3D-53178726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0AF995-A675-4A39-A39A-0FF96B00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0E3762-01D2-427E-848A-A4BD238F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F2FC12-C064-4ABA-ABAA-20C9834E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C27C-70FD-4200-BD56-EB6B635F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B4EF46-AA4B-49C3-8A24-9AE0995C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FBF2BD-2CA8-4451-9131-8B84676D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A66672-E635-4B8B-85F3-D3C625D3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9DCB2F-2038-4973-A7E3-7B7983F9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09198A-FC81-4530-B8C4-BB0EA56F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8224B0-1D9D-432F-B937-C19591EB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AFCA48-55F7-456F-88E5-243332DA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AAAF9C-8CE3-483A-9FA0-7798B0BB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384CF-ECC2-4344-A29E-97C4EA32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56F433-1197-4BEF-B7D4-CC5D2C85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F4EB-AC14-4D5C-BF1D-0F1AA614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196753-3D60-4D7E-A83F-512504CF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B08DA5-D15D-4313-AC99-F7EA4493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83E96B-EA07-4A9A-8E04-69B6A581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1535E2-5B9F-44BB-9D35-6EEDF73E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C5B206-58CB-4B0D-9116-90953CDE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F9EB39-02D8-4779-96B7-A496F98D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8D37C5-46DA-4D4B-98F9-78681085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ED1B1A-557B-425A-9825-1A95D8C0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8261D6-EE62-475C-A50C-0641F2A3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71EF5E-08B5-4508-8125-27398106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29C2-883C-4EFB-8C15-229DCA6B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A95D1F-42BB-42DF-AF66-D8C740B2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42B82C-53F6-46DC-BFFD-DEAAEDBF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1E1E83-8F79-4575-BB2E-F15EF5D0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581988-C6A2-47BE-9595-1368B86C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6DAF9E-C5BC-4721-8ED9-2AF92E30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1F4DF9-B8E0-40DE-AF4B-8F03CA20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CA804F-F55B-4965-B4A5-CE1F8815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E52957-FED2-4914-BDB5-C147B067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9BC358-16BD-4808-8196-586171B1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0D8612-9E3B-43A1-9D09-6780294C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87B7A7-E9BD-4AA9-9995-D38EE9B7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EA7A94-9731-42B4-AF72-E0381906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62CE69-FDA6-45B3-9F8F-6B65A2EB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82D-1EA7-40D3-BA5B-C5B05EB5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1A409-3BDA-43BE-B6D3-34E91761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B5F4A-7AA6-421A-BBFA-5E0A2AAD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85266-EF12-44EC-AFDB-3F949331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A0D-C884-4EA3-99A7-5FE70135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99E61-2689-48DB-B4B5-679F098E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263DA-2A3F-4C25-854F-1E52BA80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257B4-C8C0-4C9F-8A0E-BB8B212B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02BF9-44A6-4948-952A-AA3476F6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1894C-EF82-40DB-A32A-EB538767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5E32E-A1F0-4175-8631-4019D2F4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064CF-C04A-4FE5-8621-03B4DBD7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D998E-3516-434C-87AF-2A9ED4EE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9BE37-3E65-425B-BB9D-941E1F8B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C3737-F1DE-4412-92BB-D49BC0B0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E40-28D7-4A47-842F-9EC22487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1E5A1-19FC-4EE6-8A88-7C8FC071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05A37-4D1A-4442-BCB2-56290BFA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B79CF-A199-4137-A40D-DB90BC28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44B46-FD51-439B-BE3C-B1B9F3C8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6E403-EC33-46AA-AEEF-0EC36D6E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B4587-C09D-4F33-8D68-DC0822E1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F96A8-1CD3-4EA2-825D-2F5F44DA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9AD8F-E0B0-48C0-9602-F3C0E58A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27F5-35D3-4B08-9EE7-FA8A20CF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A8FB6-517B-4F2B-8B24-1E851B1F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873-867A-4004-8050-F01AB91E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B4EC8-822A-4592-898E-92FF4097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3A8DA-4A3F-476D-9ABE-7901ED1A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08B56-B6B0-467C-8AED-1E03780F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3F38B-0FE0-48CC-82AB-BED2148D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E5A08-5584-4EC0-A2BF-C4B15B7F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8D6D8-EF26-4708-9606-F48D7005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CCFEB-AB1D-43A2-A2B2-0752061D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AB0A9-C56A-45F4-9D1C-0D3F1B9E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C40EA-F2F9-4874-8BA0-B075975D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2076F-D493-46B0-9F29-F0965EB6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885-14B1-4BAB-9BED-9BCE04EB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D5652-E2F6-466A-8FB9-5D8CC8AA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47E28-547F-47A8-B26A-D31EEA09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FC726-2627-46D6-AA9C-47BD3BFD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66350-D146-4419-9AF0-B4E11DEB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C9C69-1DF7-4E65-87B8-51E267C8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F72F3-EB6F-4BB0-9B76-13CED156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59596-1565-43D9-BCA4-C775B7FD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4DD9F-6A76-49A1-8FFD-67FD4087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7651D-8A7F-4E0F-8154-DDC58B9B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D0112-4634-45DD-81DB-20C3F312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8DE-20CE-4DE8-8BAF-F776ACF8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3B216-C6AA-412C-82D9-3DEAB999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B3DC3-04B1-403C-A084-C0F4E7C5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9F66B-68E8-42BB-AF57-70AB0F51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E3B3C-E537-47FF-8953-891C3BB2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B9D79-1BE5-4144-9101-BDA00DD2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F4E33-6418-4E3E-A55E-9EFDD76A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8D088-6E11-45CF-83F3-539B7718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8A396-EA9C-4D7F-9EE9-B378B628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32B6C-860C-4892-AC72-21895BE2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F32EE-B994-4275-AFE4-C238F147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DE95-595B-40EC-850D-C81621C4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15085-FD99-4A5C-A0E7-9E459806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AF1BE-9D31-4018-9CF0-F12387ED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B8210-13B4-47D8-90D1-EFC16F3A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C2823-8843-402E-8363-206E9877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8878B-D6C1-4A01-9A04-D96272D2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8E914-33D0-4A33-A695-3C0E641F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DCD0C-764F-48CC-AD95-1334E9BF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FC05B-285C-47B2-9992-87DAACBD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226EF-BA98-41D7-8F04-724FB0CB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E6B9B-4D56-48F5-991E-4809F756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81D8-0941-4FE1-9C23-8C8F64543F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3115-271C-4536-9BF7-C71FCCA556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A693-3511-420B-B9D5-BB13B1887A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70C3-55C7-4FB6-A82D-8BF73E538D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AB91-891E-4357-A92F-04AAFB277D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9617-5C76-482C-A630-85DC5FFDC9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1FCF-EBB1-46DA-9BDB-67E2EAA6EF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44B6-FA24-40B3-9A7F-CC6B934C1D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67CB-1332-427E-865B-E8820FA985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FEF8-F60A-4A58-BE8E-B29601C639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A124-84A6-47FE-9E22-0CA5714D96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D83F-BDD2-4265-88E8-72DBB9A2D4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5DFF-BF9A-4F7B-B1B2-9C0237DCA8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3178-04CC-43D3-BD7B-6C5F26CDCF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5BE0-6B13-4D89-AF54-3407696381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C78C-6024-4CCF-A355-2EABC11009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E805-A5E1-4693-8130-C55B47E520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A0B2-FEB3-4242-B716-172683C67C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20A3-4E39-4499-9FE9-0AC2024A96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32CD-08C3-4CB0-A164-5D1DB52CB3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AF02-9C92-4FF1-A11D-4577BB63D9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A7F8-E061-4FDA-ADFE-D505D82163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1542-CC61-4653-A14E-E2111EAE1B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3674-18C5-4800-BD74-8F24E40CDE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CB65-BF86-4108-8F47-170E609081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0003-CCD7-49AD-830B-0B2B650EB4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2EDC-D1BC-40F4-85ED-05F8EF8C66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9AFE-F9CD-4D71-AE7C-2EBECCF8AB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E301-A4C3-4C42-92F6-25583F5086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D100-A2E4-4C48-8F49-7309DAD237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D73A-4A6F-46C0-9942-1BA95BA39C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0533-7199-42AA-9637-82DB7CD1C9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C38B-4665-4F08-92BA-4D76667AA1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6977-A76E-46DE-8A72-B3EA7D4281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DE1B-8A89-4B1F-92BD-3DD7998EFE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BF9B-0F5E-482D-9CA7-A2B6C6666C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415D-01BC-444F-AE9B-01FD05848E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5D75-E20F-4A2E-BEB8-453BD96332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4D9E-8EC0-4B0E-901D-C45EDED1AF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90360" y="2590920"/>
            <a:ext cx="89632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8" name="图片 13313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464004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2"/>
          <a:stretch/>
        </p:blipFill>
        <p:spPr>
          <a:xfrm>
            <a:off x="2340000" y="1571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3"/>
          <a:stretch/>
        </p:blipFill>
        <p:spPr>
          <a:xfrm>
            <a:off x="234000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4"/>
          <a:stretch/>
        </p:blipFill>
        <p:spPr>
          <a:xfrm>
            <a:off x="2411280" y="3716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5"/>
          <a:stretch/>
        </p:blipFill>
        <p:spPr>
          <a:xfrm>
            <a:off x="2411280" y="47671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5" name="图片 14337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904000" cy="43639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2"/>
          <a:stretch/>
        </p:blipFill>
        <p:spPr>
          <a:xfrm>
            <a:off x="6488280" y="14698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9" name="图片 15361" descr=""/>
          <p:cNvPicPr/>
          <p:nvPr/>
        </p:nvPicPr>
        <p:blipFill>
          <a:blip r:embed="rId1"/>
          <a:stretch/>
        </p:blipFill>
        <p:spPr>
          <a:xfrm>
            <a:off x="611280" y="909720"/>
            <a:ext cx="7446960" cy="56149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2"/>
          <a:stretch/>
        </p:blipFill>
        <p:spPr>
          <a:xfrm>
            <a:off x="1476360" y="1974960"/>
            <a:ext cx="4032360" cy="32040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3"/>
          <a:stretch/>
        </p:blipFill>
        <p:spPr>
          <a:xfrm>
            <a:off x="1403280" y="3011400"/>
            <a:ext cx="4032360" cy="3207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4"/>
          <a:stretch/>
        </p:blipFill>
        <p:spPr>
          <a:xfrm>
            <a:off x="1332000" y="4062240"/>
            <a:ext cx="4032000" cy="32076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5"/>
          <a:stretch/>
        </p:blipFill>
        <p:spPr>
          <a:xfrm>
            <a:off x="1258920" y="5084640"/>
            <a:ext cx="4032360" cy="32076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6"/>
          <a:stretch/>
        </p:blipFill>
        <p:spPr>
          <a:xfrm>
            <a:off x="1258920" y="6121440"/>
            <a:ext cx="4032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7" name="图片 16385" descr=""/>
          <p:cNvPicPr/>
          <p:nvPr/>
        </p:nvPicPr>
        <p:blipFill>
          <a:blip r:embed="rId1"/>
          <a:stretch/>
        </p:blipFill>
        <p:spPr>
          <a:xfrm>
            <a:off x="76320" y="1100160"/>
            <a:ext cx="8991360" cy="465768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63972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684360" y="4522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639720" y="4941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684360" y="54021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4" name="组合 22531"/>
          <p:cNvGrpSpPr/>
          <p:nvPr/>
        </p:nvGrpSpPr>
        <p:grpSpPr>
          <a:xfrm>
            <a:off x="304920" y="1197000"/>
            <a:ext cx="8659800" cy="4255920"/>
            <a:chOff x="304920" y="1197000"/>
            <a:chExt cx="8659800" cy="4255920"/>
          </a:xfrm>
        </p:grpSpPr>
        <p:pic>
          <p:nvPicPr>
            <p:cNvPr id="1025" name="图片 22529" descr=""/>
            <p:cNvPicPr/>
            <p:nvPr/>
          </p:nvPicPr>
          <p:blipFill>
            <a:blip r:embed="rId1"/>
            <a:stretch/>
          </p:blipFill>
          <p:spPr>
            <a:xfrm>
              <a:off x="304920" y="1405080"/>
              <a:ext cx="8534160" cy="40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Picture 1" descr=""/>
            <p:cNvPicPr/>
            <p:nvPr/>
          </p:nvPicPr>
          <p:blipFill>
            <a:blip r:embed="rId2"/>
            <a:stretch/>
          </p:blipFill>
          <p:spPr>
            <a:xfrm>
              <a:off x="8101080" y="1197000"/>
              <a:ext cx="863640" cy="151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900000" y="3573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90000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900000" y="4581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7"/>
          <a:stretch/>
        </p:blipFill>
        <p:spPr>
          <a:xfrm>
            <a:off x="900000" y="50418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图片 21506" descr=""/>
          <p:cNvPicPr/>
          <p:nvPr/>
        </p:nvPicPr>
        <p:blipFill>
          <a:blip r:embed="rId1"/>
          <a:stretch/>
        </p:blipFill>
        <p:spPr>
          <a:xfrm>
            <a:off x="115920" y="2220840"/>
            <a:ext cx="8920080" cy="25369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684360" y="26035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68436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684360" y="3948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684360" y="43797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2" name="组合 20483"/>
          <p:cNvGrpSpPr/>
          <p:nvPr/>
        </p:nvGrpSpPr>
        <p:grpSpPr>
          <a:xfrm>
            <a:off x="6480" y="1413000"/>
            <a:ext cx="9102600" cy="3600000"/>
            <a:chOff x="6480" y="1413000"/>
            <a:chExt cx="9102600" cy="3600000"/>
          </a:xfrm>
        </p:grpSpPr>
        <p:pic>
          <p:nvPicPr>
            <p:cNvPr id="1043" name="图片 20481" descr=""/>
            <p:cNvPicPr/>
            <p:nvPr/>
          </p:nvPicPr>
          <p:blipFill>
            <a:blip r:embed="rId1"/>
            <a:stretch/>
          </p:blipFill>
          <p:spPr>
            <a:xfrm>
              <a:off x="6480" y="1413000"/>
              <a:ext cx="6638760" cy="22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图片 20482" descr=""/>
            <p:cNvPicPr/>
            <p:nvPr/>
          </p:nvPicPr>
          <p:blipFill>
            <a:blip r:embed="rId2"/>
            <a:stretch/>
          </p:blipFill>
          <p:spPr>
            <a:xfrm>
              <a:off x="158760" y="3751200"/>
              <a:ext cx="8950320" cy="126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1403280" y="1873080"/>
            <a:ext cx="792360" cy="320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3780000" y="2335320"/>
            <a:ext cx="792000" cy="3204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2152800" y="3774960"/>
            <a:ext cx="792000" cy="320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1258920" y="4221000"/>
            <a:ext cx="108108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3203640" y="4192560"/>
            <a:ext cx="7920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图片 8193" descr=""/>
          <p:cNvPicPr/>
          <p:nvPr/>
        </p:nvPicPr>
        <p:blipFill>
          <a:blip r:embed="rId1"/>
          <a:stretch/>
        </p:blipFill>
        <p:spPr>
          <a:xfrm>
            <a:off x="285840" y="1457280"/>
            <a:ext cx="8572320" cy="39434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"/>
          <a:stretch/>
        </p:blipFill>
        <p:spPr>
          <a:xfrm>
            <a:off x="900000" y="306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3"/>
          <a:stretch/>
        </p:blipFill>
        <p:spPr>
          <a:xfrm>
            <a:off x="900000" y="35290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4"/>
          <a:stretch/>
        </p:blipFill>
        <p:spPr>
          <a:xfrm>
            <a:off x="90000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5"/>
          <a:stretch/>
        </p:blipFill>
        <p:spPr>
          <a:xfrm>
            <a:off x="900000" y="4522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6"/>
          <a:stretch/>
        </p:blipFill>
        <p:spPr>
          <a:xfrm>
            <a:off x="900000" y="502776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图片 9217" descr=""/>
          <p:cNvPicPr/>
          <p:nvPr/>
        </p:nvPicPr>
        <p:blipFill>
          <a:blip r:embed="rId1"/>
          <a:stretch/>
        </p:blipFill>
        <p:spPr>
          <a:xfrm>
            <a:off x="23760" y="995400"/>
            <a:ext cx="8969400" cy="55436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684360" y="24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4"/>
          <a:stretch/>
        </p:blipFill>
        <p:spPr>
          <a:xfrm>
            <a:off x="684360" y="3357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5"/>
          <a:stretch/>
        </p:blipFill>
        <p:spPr>
          <a:xfrm>
            <a:off x="684360" y="4365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6"/>
          <a:stretch/>
        </p:blipFill>
        <p:spPr>
          <a:xfrm>
            <a:off x="684360" y="57340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图片 10241" descr=""/>
          <p:cNvPicPr/>
          <p:nvPr/>
        </p:nvPicPr>
        <p:blipFill>
          <a:blip r:embed="rId1"/>
          <a:stretch/>
        </p:blipFill>
        <p:spPr>
          <a:xfrm>
            <a:off x="128520" y="1628640"/>
            <a:ext cx="8886960" cy="36007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684360" y="3587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4"/>
          <a:stretch/>
        </p:blipFill>
        <p:spPr>
          <a:xfrm>
            <a:off x="684360" y="4033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5"/>
          <a:stretch/>
        </p:blipFill>
        <p:spPr>
          <a:xfrm>
            <a:off x="684360" y="44658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6"/>
          <a:stretch/>
        </p:blipFill>
        <p:spPr>
          <a:xfrm>
            <a:off x="684360" y="4941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图片 12289" descr=""/>
          <p:cNvPicPr/>
          <p:nvPr/>
        </p:nvPicPr>
        <p:blipFill>
          <a:blip r:embed="rId1"/>
          <a:stretch/>
        </p:blipFill>
        <p:spPr>
          <a:xfrm>
            <a:off x="95400" y="1590840"/>
            <a:ext cx="8953200" cy="36763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2"/>
          <a:stretch/>
        </p:blipFill>
        <p:spPr>
          <a:xfrm>
            <a:off x="2700360" y="2535120"/>
            <a:ext cx="1366920" cy="3207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3"/>
          <a:stretch/>
        </p:blipFill>
        <p:spPr>
          <a:xfrm>
            <a:off x="826920" y="3400560"/>
            <a:ext cx="720720" cy="32040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4"/>
          <a:stretch/>
        </p:blipFill>
        <p:spPr>
          <a:xfrm>
            <a:off x="2268360" y="3400560"/>
            <a:ext cx="721080" cy="3204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5"/>
          <a:stretch/>
        </p:blipFill>
        <p:spPr>
          <a:xfrm>
            <a:off x="2411280" y="4695840"/>
            <a:ext cx="208944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3" name="图片 11265" descr=""/>
          <p:cNvPicPr/>
          <p:nvPr/>
        </p:nvPicPr>
        <p:blipFill>
          <a:blip r:embed="rId1"/>
          <a:stretch/>
        </p:blipFill>
        <p:spPr>
          <a:xfrm>
            <a:off x="223920" y="2347920"/>
            <a:ext cx="8696160" cy="21621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2"/>
          <a:stretch/>
        </p:blipFill>
        <p:spPr>
          <a:xfrm>
            <a:off x="684360" y="2665440"/>
            <a:ext cx="1584000" cy="3207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3"/>
          <a:stretch/>
        </p:blipFill>
        <p:spPr>
          <a:xfrm>
            <a:off x="2484360" y="3773520"/>
            <a:ext cx="1584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8:23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